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530-1FD0-4C78-8CBA-BCEDD07A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9FF-3267-42BB-816B-DABB2C69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B78-39F6-4E82-8DF5-C2F065B6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4E0-E8C5-4C80-89F2-A225C560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B725-6052-44F9-901F-FD63F023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5359-6DFB-4CE6-B8BE-69451837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DDB2-7C06-4FB3-98C0-994C4EC8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3CDD-6596-4D8B-8D8E-BDFAA761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445A-418E-4874-B70F-595C2C31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2388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E9A6-FC24-4A0D-B911-2522B071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A69C-592D-41E0-BA69-494935DF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A50-176E-4E56-9B11-A9D362F6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0321-5390-4867-AD19-D0AF0B1D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8920-C89E-4F16-BBFB-1E6297C8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AC82-48C3-4CFD-8AEA-B5CFF901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6EE7-864A-41C4-AC9C-CE8B3881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B344-762A-4AE6-9686-ECB06A10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7D8F-BA69-46FC-B005-21D019D0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0CF5-C594-44DD-84C0-F9FDDCDD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323-A712-43DC-9207-BF31AF5A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2388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707-B4EE-4168-82C7-CD30AB88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EBB-86A2-4C8D-86DF-ECE702E1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EAE-1013-4602-A403-21B7F458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BBB2-14FF-44A3-8C9A-EF2C90D7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6734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DEA0-F654-49A0-AFF9-57DFE7975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6734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BC79-5AB1-426D-BE97-F7DE4BAB4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RADNI_LIST_WORD_1_1C.doc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isaci_tablica.doc" TargetMode="External"/><Relationship Id="rId2" Type="http://schemas.openxmlformats.org/officeDocument/2006/relationships/hyperlink" Target="file:///vanjske_mem_tablica.doc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1699920"/>
            <a:ext cx="5832720" cy="24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706734"/>
                </a:solidFill>
                <a:latin typeface="Arial Black"/>
              </a:rPr>
              <a:t>Metode za promicanje kritičkog mišljenja u nastavi informatike i računalstva</a:t>
            </a:r>
            <a:r>
              <a:rPr b="0" lang="hr-HR" sz="3600" spc="-1" strike="noStrike">
                <a:solidFill>
                  <a:srgbClr val="706734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492360" y="4365720"/>
            <a:ext cx="3600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eljka Bjelanović Dijan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rednja škola Čaz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aruvar, 31.3.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706734"/>
                </a:solidFill>
                <a:latin typeface="Arial Black"/>
              </a:rPr>
              <a:t>Vennov dijagram</a:t>
            </a: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pic>
        <p:nvPicPr>
          <p:cNvPr id="116" name="Picture 5" descr="Vennov_mape_datoteke"/>
          <p:cNvPicPr/>
          <p:nvPr/>
        </p:nvPicPr>
        <p:blipFill>
          <a:blip r:embed="rId1"/>
          <a:stretch/>
        </p:blipFill>
        <p:spPr>
          <a:xfrm>
            <a:off x="900000" y="1312920"/>
            <a:ext cx="748836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2772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06734"/>
                </a:solidFill>
                <a:latin typeface="Arial Black"/>
              </a:rPr>
              <a:t>T/N tvrdnje – sparivanje – nepotpune rečenice,…</a:t>
            </a:r>
            <a:endParaRPr b="0" lang="en-US" sz="32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že se korist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dni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nline pitanja </a:t>
            </a:r>
            <a:r>
              <a:rPr b="0" lang="hr-H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Propy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o uvod u nastavni sat (kad misle da sve znaju da im razbijemo tu iluzij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je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3366ff"/>
                </a:solidFill>
                <a:uFillTx/>
                <a:latin typeface="Arial"/>
                <a:hlinkClick r:id="rId1"/>
              </a:rPr>
              <a:t>Word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pisanje, brisanje i izmjena teksta, označavanje i obliko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Windows – rukovanje mapama i datotek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706734"/>
                </a:solidFill>
                <a:latin typeface="Arial Black"/>
              </a:rPr>
              <a:t>+/- tablica</a:t>
            </a: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285560"/>
            <a:ext cx="82184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orma tablice (upisati + ili 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jmovi se mogu spojiti (+) ili ne mogu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jeri: usluge Interneta,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fizičko povezivanje dijelova raču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42960" y="3714840"/>
          <a:ext cx="8215200" cy="2717640"/>
        </p:xfrm>
        <a:graphic>
          <a:graphicData uri="http://schemas.openxmlformats.org/drawingml/2006/table">
            <a:tbl>
              <a:tblPr/>
              <a:tblGrid>
                <a:gridCol w="2214720"/>
                <a:gridCol w="1285560"/>
                <a:gridCol w="1214640"/>
                <a:gridCol w="1500120"/>
                <a:gridCol w="1143000"/>
                <a:gridCol w="857160"/>
              </a:tblGrid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ma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cija 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i koris. rač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706734"/>
                </a:solidFill>
                <a:latin typeface="Arial Black"/>
              </a:rPr>
              <a:t>+/- tablica</a:t>
            </a: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pic>
        <p:nvPicPr>
          <p:cNvPr id="123" name="Picture 119" descr="DSCF8668"/>
          <p:cNvPicPr/>
          <p:nvPr/>
        </p:nvPicPr>
        <p:blipFill>
          <a:blip r:embed="rId1"/>
          <a:srcRect l="0" t="6980" r="0" b="10276"/>
          <a:stretch/>
        </p:blipFill>
        <p:spPr>
          <a:xfrm>
            <a:off x="755640" y="1647720"/>
            <a:ext cx="777708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706734"/>
                </a:solidFill>
                <a:latin typeface="Arial Black"/>
              </a:rPr>
              <a:t>KWL tablica</a:t>
            </a: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ploči pripremimo tablicu sa stupci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00"/>
                </a:solidFill>
                <a:latin typeface="Arial"/>
              </a:rPr>
              <a:t>Što znamo?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- predzn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00"/>
                </a:solidFill>
                <a:latin typeface="Arial"/>
              </a:rPr>
              <a:t>Što želimo znati?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- motiv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00"/>
                </a:solidFill>
                <a:latin typeface="Arial"/>
              </a:rPr>
              <a:t>Što smo naučili?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- ponavlj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punjavamo ju tijekom cijelog s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uzetno korisno kod rada na računalu kad učenici misle da sve znaju </a:t>
            </a:r>
            <a:r>
              <a:rPr b="0" lang="hr-H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ripremiti predloške da vide što ne zn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706734"/>
                </a:solidFill>
                <a:latin typeface="Arial Black"/>
              </a:rPr>
              <a:t>KWL tablica</a:t>
            </a: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pic>
        <p:nvPicPr>
          <p:cNvPr id="127" name="Picture 5" descr="DSCF7202"/>
          <p:cNvPicPr/>
          <p:nvPr/>
        </p:nvPicPr>
        <p:blipFill>
          <a:blip r:embed="rId1"/>
          <a:srcRect l="895" t="5827" r="1789" b="26524"/>
          <a:stretch/>
        </p:blipFill>
        <p:spPr>
          <a:xfrm>
            <a:off x="324000" y="1197000"/>
            <a:ext cx="8424720" cy="43927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7"/>
          <p:cNvSpPr/>
          <p:nvPr/>
        </p:nvSpPr>
        <p:spPr>
          <a:xfrm>
            <a:off x="1476360" y="5877000"/>
            <a:ext cx="1584360" cy="647640"/>
          </a:xfrm>
          <a:prstGeom prst="flowChartAlternateProcess">
            <a:avLst/>
          </a:prstGeom>
          <a:solidFill>
            <a:srgbClr val="809ea8"/>
          </a:solidFill>
          <a:ln w="28440">
            <a:solidFill>
              <a:srgbClr val="4b64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p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3348000" y="5877000"/>
            <a:ext cx="1584360" cy="647640"/>
          </a:xfrm>
          <a:prstGeom prst="flowChartAlternateProcess">
            <a:avLst/>
          </a:prstGeom>
          <a:solidFill>
            <a:srgbClr val="809ea8"/>
          </a:solidFill>
          <a:ln w="28440">
            <a:solidFill>
              <a:srgbClr val="4b64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dloža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5219640" y="5877000"/>
            <a:ext cx="1584360" cy="647640"/>
          </a:xfrm>
          <a:prstGeom prst="flowChartAlternateProcess">
            <a:avLst/>
          </a:prstGeom>
          <a:solidFill>
            <a:srgbClr val="809ea8"/>
          </a:solidFill>
          <a:ln w="28440">
            <a:solidFill>
              <a:srgbClr val="4b64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dloža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7093080" y="5877000"/>
            <a:ext cx="1584360" cy="647640"/>
          </a:xfrm>
          <a:prstGeom prst="flowChartAlternateProcess">
            <a:avLst/>
          </a:prstGeom>
          <a:solidFill>
            <a:srgbClr val="809ea8"/>
          </a:solidFill>
          <a:ln w="28440">
            <a:solidFill>
              <a:srgbClr val="4b64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ci uz predloža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9280" y="2204640"/>
            <a:ext cx="5905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808000"/>
                </a:solidFill>
                <a:latin typeface="Arial"/>
              </a:rPr>
              <a:t>Pitanja 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4b646d"/>
                </a:solidFill>
                <a:latin typeface="Arial"/>
              </a:rPr>
              <a:t>Komentari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706734"/>
                </a:solidFill>
                <a:latin typeface="Arial Black"/>
              </a:rPr>
              <a:t>ERR</a:t>
            </a:r>
            <a:r>
              <a:rPr b="0" lang="hr-HR" sz="4000" spc="-1" strike="noStrike">
                <a:solidFill>
                  <a:srgbClr val="706734"/>
                </a:solidFill>
                <a:latin typeface="Arial Black"/>
              </a:rPr>
              <a:t> SUSTAV</a:t>
            </a: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8000"/>
                </a:solidFill>
                <a:latin typeface="Arial"/>
              </a:rPr>
              <a:t>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o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8000"/>
                </a:solidFill>
                <a:latin typeface="Arial"/>
              </a:rPr>
              <a:t>R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zumijevanje znač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8000"/>
                </a:solidFill>
                <a:latin typeface="Arial"/>
              </a:rPr>
              <a:t>R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flek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6400" y="1600200"/>
            <a:ext cx="3740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rada nastavnih sadrž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navlj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356000" y="1628640"/>
            <a:ext cx="403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4b646d"/>
                </a:solidFill>
                <a:latin typeface="Arial"/>
                <a:ea typeface="Arial"/>
              </a:rPr>
              <a:t>ETAPE NASTAVNOG SA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3276720" y="2421000"/>
            <a:ext cx="1512720" cy="2448000"/>
            <a:chOff x="3276720" y="2421000"/>
            <a:chExt cx="1512720" cy="2448000"/>
          </a:xfrm>
        </p:grpSpPr>
        <p:sp>
          <p:nvSpPr>
            <p:cNvPr id="89" name="Line 7"/>
            <p:cNvSpPr/>
            <p:nvPr/>
          </p:nvSpPr>
          <p:spPr>
            <a:xfrm>
              <a:off x="3276720" y="2421000"/>
              <a:ext cx="1368360" cy="0"/>
            </a:xfrm>
            <a:prstGeom prst="line">
              <a:avLst/>
            </a:prstGeom>
            <a:ln w="38160">
              <a:solidFill>
                <a:srgbClr val="808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8"/>
            <p:cNvSpPr/>
            <p:nvPr/>
          </p:nvSpPr>
          <p:spPr>
            <a:xfrm>
              <a:off x="3708360" y="3429000"/>
              <a:ext cx="1081080" cy="0"/>
            </a:xfrm>
            <a:prstGeom prst="line">
              <a:avLst/>
            </a:prstGeom>
            <a:ln w="38160">
              <a:solidFill>
                <a:srgbClr val="808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"/>
            <p:cNvSpPr/>
            <p:nvPr/>
          </p:nvSpPr>
          <p:spPr>
            <a:xfrm>
              <a:off x="3276720" y="4869000"/>
              <a:ext cx="1368360" cy="0"/>
            </a:xfrm>
            <a:prstGeom prst="line">
              <a:avLst/>
            </a:prstGeom>
            <a:ln w="38160">
              <a:solidFill>
                <a:srgbClr val="808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0"/>
          <p:cNvSpPr/>
          <p:nvPr/>
        </p:nvSpPr>
        <p:spPr>
          <a:xfrm>
            <a:off x="3419640" y="58770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vor: RWCT – Čitanje i pisanje za kritičko mišlj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FSO – Forum za slobodu odgo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1258920" y="5516640"/>
            <a:ext cx="1728720" cy="792000"/>
          </a:xfrm>
          <a:prstGeom prst="flowChartAlternateProcess">
            <a:avLst/>
          </a:prstGeom>
          <a:solidFill>
            <a:srgbClr val="809ea8"/>
          </a:solidFill>
          <a:ln w="28440">
            <a:solidFill>
              <a:srgbClr val="4b64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ratak opis </a:t>
            </a:r>
            <a:r>
              <a:rPr b="1" lang="hr-HR" sz="1800" spc="-1" strike="noStrike">
                <a:solidFill>
                  <a:srgbClr val="808000"/>
                </a:solidFill>
                <a:latin typeface="Arial"/>
              </a:rPr>
              <a:t>ERR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sus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706734"/>
                </a:solidFill>
                <a:latin typeface="Arial Black"/>
              </a:rPr>
              <a:t>Grozd</a:t>
            </a: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lično umnoj m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ljučni pojam staviti u sredinu te dopisivati pojmove koji nam padaju na pamet te ih poveziv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o uvod u nastavni sat (motivacija, predznan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stematizacija gradiva (u školi ili za D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blici rada: grupni rad, u paru, individual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706734"/>
                </a:solidFill>
                <a:latin typeface="Arial Black"/>
              </a:rPr>
              <a:t>Grozd</a:t>
            </a: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pic>
        <p:nvPicPr>
          <p:cNvPr id="97" name="Picture 5" descr="grozd-rac_prog"/>
          <p:cNvPicPr/>
          <p:nvPr/>
        </p:nvPicPr>
        <p:blipFill>
          <a:blip r:embed="rId1"/>
          <a:stretch/>
        </p:blipFill>
        <p:spPr>
          <a:xfrm>
            <a:off x="684360" y="1127160"/>
            <a:ext cx="784836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706734"/>
                </a:solidFill>
                <a:latin typeface="Arial Black"/>
              </a:rPr>
              <a:t>Grozd</a:t>
            </a: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pic>
        <p:nvPicPr>
          <p:cNvPr id="99" name="Picture 5" descr="grozd-virusi"/>
          <p:cNvPicPr/>
          <p:nvPr/>
        </p:nvPicPr>
        <p:blipFill>
          <a:blip r:embed="rId1"/>
          <a:stretch/>
        </p:blipFill>
        <p:spPr>
          <a:xfrm>
            <a:off x="684360" y="1125360"/>
            <a:ext cx="763272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706734"/>
                </a:solidFill>
                <a:latin typeface="Arial Black"/>
              </a:rPr>
              <a:t>Rotirajući pregled</a:t>
            </a: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rupni rad – koliko grupa toliko pi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aka grupa dobije jedno pitanje na A4 papiru, pišu što zn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apiri se rotiraju, učenici čitaju i dopunjuju svojim ide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o uvod u nastavni sat (motivacija, predznan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jeri: ulazni uređaji, usluge interneta, namjenski program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706734"/>
                </a:solidFill>
                <a:latin typeface="Arial Black"/>
              </a:rPr>
              <a:t>Rotirajući pregled</a:t>
            </a: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pic>
        <p:nvPicPr>
          <p:cNvPr id="103" name="Picture 5" descr="DSC05749"/>
          <p:cNvPicPr/>
          <p:nvPr/>
        </p:nvPicPr>
        <p:blipFill>
          <a:blip r:embed="rId1"/>
          <a:stretch/>
        </p:blipFill>
        <p:spPr>
          <a:xfrm>
            <a:off x="900000" y="1109520"/>
            <a:ext cx="7344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706734"/>
                </a:solidFill>
                <a:latin typeface="Arial Black"/>
              </a:rPr>
              <a:t>Konceptualna tablica</a:t>
            </a: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9311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poređivanje više pojm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navljanje, sistemat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jeri: </a:t>
            </a:r>
            <a:r>
              <a:rPr b="0" lang="hr-HR" sz="3200" spc="-1" strike="noStrike" u="sng">
                <a:solidFill>
                  <a:srgbClr val="3366ff"/>
                </a:solidFill>
                <a:uFillTx/>
                <a:latin typeface="Arial"/>
                <a:hlinkClick r:id="rId1"/>
              </a:rPr>
              <a:t>pisač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32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vanjske memori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logički sklopovi, namjenski programi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00000" y="3860640"/>
          <a:ext cx="7344000" cy="2444760"/>
        </p:xfrm>
        <a:graphic>
          <a:graphicData uri="http://schemas.openxmlformats.org/drawingml/2006/table">
            <a:tbl>
              <a:tblPr/>
              <a:tblGrid>
                <a:gridCol w="2376720"/>
                <a:gridCol w="1582560"/>
                <a:gridCol w="1513080"/>
                <a:gridCol w="1871640"/>
              </a:tblGrid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(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(IL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(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c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ica ist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706734"/>
                </a:solidFill>
                <a:latin typeface="Arial Black"/>
              </a:rPr>
              <a:t>Vennov dijagram</a:t>
            </a:r>
            <a:endParaRPr b="0" lang="en-US" sz="4000" spc="-1" strike="noStrike">
              <a:solidFill>
                <a:srgbClr val="706734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porediti dva pojma te izdvojiti njihove </a:t>
            </a:r>
            <a:r>
              <a:rPr b="0" lang="hr-HR" sz="3200" spc="-1" strike="noStrike">
                <a:solidFill>
                  <a:srgbClr val="3366ff"/>
                </a:solidFill>
                <a:latin typeface="Arial"/>
              </a:rPr>
              <a:t>sličnos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hr-HR" sz="3200" spc="-1" strike="noStrike">
                <a:solidFill>
                  <a:srgbClr val="3366ff"/>
                </a:solidFill>
                <a:latin typeface="Arial"/>
              </a:rPr>
              <a:t>raz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je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nitori: CRT - L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voditelji: interpreter - kompaj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rananje: IF-ELSE -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učelje: znakovno – grafič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Webmail – elektronička po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0"/>
          <p:cNvGrpSpPr/>
          <p:nvPr/>
        </p:nvGrpSpPr>
        <p:grpSpPr>
          <a:xfrm>
            <a:off x="5357880" y="2071800"/>
            <a:ext cx="3095280" cy="2015640"/>
            <a:chOff x="5357880" y="2071800"/>
            <a:chExt cx="3095280" cy="2015640"/>
          </a:xfrm>
        </p:grpSpPr>
        <p:grpSp>
          <p:nvGrpSpPr>
            <p:cNvPr id="110" name="Group 15"/>
            <p:cNvGrpSpPr/>
            <p:nvPr/>
          </p:nvGrpSpPr>
          <p:grpSpPr>
            <a:xfrm>
              <a:off x="5357880" y="2071800"/>
              <a:ext cx="3095280" cy="2015640"/>
              <a:chOff x="5357880" y="2071800"/>
              <a:chExt cx="3095280" cy="2015640"/>
            </a:xfrm>
          </p:grpSpPr>
          <p:sp>
            <p:nvSpPr>
              <p:cNvPr id="111" name="Oval 16"/>
              <p:cNvSpPr/>
              <p:nvPr/>
            </p:nvSpPr>
            <p:spPr>
              <a:xfrm>
                <a:off x="5357880" y="2071800"/>
                <a:ext cx="2121840" cy="2015640"/>
              </a:xfrm>
              <a:prstGeom prst="ellipse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7"/>
              <p:cNvSpPr/>
              <p:nvPr/>
            </p:nvSpPr>
            <p:spPr>
              <a:xfrm>
                <a:off x="6331320" y="2071800"/>
                <a:ext cx="2121840" cy="2015640"/>
              </a:xfrm>
              <a:prstGeom prst="ellipse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18"/>
            <p:cNvSpPr/>
            <p:nvPr/>
          </p:nvSpPr>
          <p:spPr>
            <a:xfrm>
              <a:off x="5861160" y="214344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3366ff"/>
                  </a:solidFill>
                  <a:latin typeface="Arial"/>
                </a:rPr>
                <a:t>C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9"/>
            <p:cNvSpPr/>
            <p:nvPr/>
          </p:nvSpPr>
          <p:spPr>
            <a:xfrm>
              <a:off x="7229880" y="214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3366ff"/>
                  </a:solidFill>
                  <a:latin typeface="Arial"/>
                </a:rPr>
                <a:t>LC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21:21:06Z</dcterms:created>
  <dc:creator>Željka Bjelanović Dijanić</dc:creator>
  <dc:description/>
  <dc:language>en-US</dc:language>
  <cp:lastModifiedBy>Operater</cp:lastModifiedBy>
  <dcterms:modified xsi:type="dcterms:W3CDTF">2011-03-31T08:14:19Z</dcterms:modified>
  <cp:revision>29</cp:revision>
  <dc:subject/>
  <dc:title>Metode za promicanje kritičkog mišljenja u nastavi informatike i računalstva </dc:title>
</cp:coreProperties>
</file>