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22F-97A6-42D8-9153-653726F1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13D-9E7A-4BA3-8BBE-C4F0BCE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137-A80B-4163-AD96-AF77D4C1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B9C-CCC3-4384-828D-55336EAF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CB86-27FE-497B-AD7B-5B6053BA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7F32-34DC-4093-876A-CCA15496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B946-7C88-4BEC-8B31-0556A1FA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D3B-1DBE-4D7A-9C87-A4BE1B5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06B-BA73-4B9C-9184-E84A0043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CCE7-751D-421C-9A36-25029DB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6C3D-23B0-4C21-8685-FC6D344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7E1-6197-4EBF-8F57-3B9988F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AD2B-5960-425F-8E62-ED8D98F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B689-ED5E-47F6-8633-2F43260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CDBE-F718-4629-B1A5-3825D6B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50C6-9FE6-4B71-B798-B4071E57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FD2-DA66-4572-8560-EFFC5518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A0C-036A-40B6-A761-BBAC9A9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047-0B76-4D29-8B2E-093ED74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21E-B05A-4F4E-996F-C11B318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380-406D-4AA1-9DC9-F80459F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A88-1C6B-45B9-B615-58D1BCB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F89-0655-44F9-8B6F-6000181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897-FCDF-42E1-87A5-6DAC6DC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2AC-EB16-473A-A8F4-B2038357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Slika 7" descr="infokup.png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095-5981-406E-B24B-7232C25A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okup.h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Bjelovaru, 3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ožujak 20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557000"/>
            <a:ext cx="70246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tjecanje iz informa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48000" y="4149360"/>
            <a:ext cx="36716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prem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mina Grmi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. mat. i in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niOkvir 4"/>
          <p:cNvSpPr/>
          <p:nvPr/>
        </p:nvSpPr>
        <p:spPr>
          <a:xfrm>
            <a:off x="1692360" y="371628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www.infokup.h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infokup.png"/>
          <p:cNvPicPr/>
          <p:nvPr/>
        </p:nvPicPr>
        <p:blipFill>
          <a:blip r:embed="rId2"/>
          <a:stretch/>
        </p:blipFill>
        <p:spPr>
          <a:xfrm>
            <a:off x="3168720" y="0"/>
            <a:ext cx="2502000" cy="29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adržaji na natjec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nove operacijskog 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hranjivanje i prijenos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rakteristike i mogućnosti programa za obradu teksta, za izradu prezentacija, za tablične prorač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nove korištenja Inter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ojevni sustavi značajni za opis rada računala te njihova primjen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kaz brojeva i znakova u računalu (IEEE norma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otreba logičke algebre i primjena na logičke sklop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a građa računala (sklopovlje i programski dijelovi računala, funkcionalnost pojedinih dijelov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goritamski pristup rješavanju zadataka (korištenjem pseudo kô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am i korištenje varijable i konsta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redbu pridruživ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tematički izrazi i standardne f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am brojač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redba grananja (jednostruka, višestruk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redbe ponavljanja (s provjeravanjem uvjeta na početku, s provjeravanjem uvjeta na kraju, s unaprijed zadanim brojem ponavljanja, ugniježđene naredbe ponavljanj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tavni tipovi podataka (cjelobrojni, realni, znakovni, logič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os i ispis podata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ndardni algoritmi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mjenu sadržaja dviju varijab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ženje najmanjeg i najvećeg među učitanim broje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čun srednje vrijednosti zadanih bro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 s prirodnim broje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pit se piše 60 minuta i učenik smije koristiti samo pribor za pis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st se sastoji od 20 pi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upan broj bodova je 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daci zatvorenog tipa su: zadaci višestrukog izbora, zadaci višestrukih kombinacija, povezivanja i sređ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daci red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daci alternativnog izbor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daci otvorenog ti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Akcijski gumb: Prilagođeno 3"/>
          <p:cNvGrpSpPr/>
          <p:nvPr/>
        </p:nvGrpSpPr>
        <p:grpSpPr>
          <a:xfrm>
            <a:off x="1085760" y="2176560"/>
            <a:ext cx="4229280" cy="847800"/>
            <a:chOff x="1085760" y="2176560"/>
            <a:chExt cx="4229280" cy="847800"/>
          </a:xfrm>
        </p:grpSpPr>
        <p:pic>
          <p:nvPicPr>
            <p:cNvPr id="111" name="Akcijski gumb: Prilagođeno 3" descr=""/>
            <p:cNvPicPr/>
            <p:nvPr/>
          </p:nvPicPr>
          <p:blipFill>
            <a:blip r:embed="rId1"/>
            <a:stretch/>
          </p:blipFill>
          <p:spPr>
            <a:xfrm>
              <a:off x="1085760" y="2176560"/>
              <a:ext cx="42292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116000" y="2205000"/>
              <a:ext cx="417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70c0"/>
                  </a:solidFill>
                  <a:latin typeface="Arial"/>
                </a:rPr>
                <a:t>Školska raz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kcijski gumb: Prilagođeno 4"/>
          <p:cNvGrpSpPr/>
          <p:nvPr/>
        </p:nvGrpSpPr>
        <p:grpSpPr>
          <a:xfrm>
            <a:off x="1085760" y="3687840"/>
            <a:ext cx="4229280" cy="847800"/>
            <a:chOff x="1085760" y="3687840"/>
            <a:chExt cx="4229280" cy="847800"/>
          </a:xfrm>
        </p:grpSpPr>
        <p:pic>
          <p:nvPicPr>
            <p:cNvPr id="114" name="Akcijski gumb: Prilagođeno 4" descr=""/>
            <p:cNvPicPr/>
            <p:nvPr/>
          </p:nvPicPr>
          <p:blipFill>
            <a:blip r:embed="rId2"/>
            <a:stretch/>
          </p:blipFill>
          <p:spPr>
            <a:xfrm>
              <a:off x="1085760" y="3687840"/>
              <a:ext cx="42292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116000" y="3716280"/>
              <a:ext cx="417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70c0"/>
                  </a:solidFill>
                  <a:latin typeface="Arial"/>
                </a:rPr>
                <a:t>Županijska raz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ategorije natjec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e informa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voj soft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139160"/>
                <a:gridCol w="200484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or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kolsko (2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5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6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7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8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5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6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7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8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C++/Pascal – I. pod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C++/Pascal – II. pod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– osnovn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- 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– prirodoslovno – matematičke 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 - 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oj softvera – osnovn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oj softvera – srednj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ziv na županijsku razi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obren broj učenika koji se poziva na županijsku razinu bio je 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095880"/>
                <a:gridCol w="1524240"/>
                <a:gridCol w="1523880"/>
              </a:tblGrid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or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kolsko (2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upanijsko (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5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6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7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O – 8.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5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6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7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/C/C++/Pascal  - 8. raz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C++/Pascal – I. pod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C++/Pascal – II. pod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– osnovn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- 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– prirodoslovno – mat. gimnaz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e informatike  - strukov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oj softvera – osnovn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oj softvera – srednja š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ziv na državno natjec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e informatike (osnovne šk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upno se poziva 30 učenika po principu prvak iz svake županije ukoliko je osvojio minimalno 50% bodova od  prosjeka svih natjecatelja na županijskoj razini, a preostali učenici po službenoj zajedničkoj ljestvici poretka svih natjecatelja u kategor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ziv na državno natjec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e informatike (srednje šk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čelno sedam učenika prirodoslovno matematičkih gimna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čelno sedam učenika strukovnih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čelno šesnaest učenika ostalih gimna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no natjec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bac od 17. do 20. travnja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rna Cafuk – osnove informatike O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tar Ćurković – osnove informatike strukovne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ir Batinović  – osnove informatike strukovne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nove informatike - srednjoškol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i zadaci za sve tri katego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enici koji sudjeluju na državnoj razini u kategoriji Osnove informatike narednih godina se ne smiju natjecati u toj kategor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7:10:32Z</dcterms:created>
  <dc:creator>Emina</dc:creator>
  <dc:description/>
  <dc:language>en-US</dc:language>
  <cp:lastModifiedBy>Emina</cp:lastModifiedBy>
  <dcterms:modified xsi:type="dcterms:W3CDTF">2011-03-31T07:45:20Z</dcterms:modified>
  <cp:revision>26</cp:revision>
  <dc:subject/>
  <dc:title>Natjecanje iz informatike</dc:title>
</cp:coreProperties>
</file>